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572-A361-4F66-9728-1FF03331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643-DB33-4CBC-AEE9-FE06251D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172-BAEE-4A96-A0B3-CF50C1F1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A2F-D86C-40E7-8BE8-0E04C261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2BB-9253-465C-BFD8-CE59177A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3E0-080B-4989-A19C-926A6F36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EE5-0BFD-41C8-97C6-A4EE1EAC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A79F-F1F2-4C7A-93BE-A6BBA7C1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61E-76D5-4D2D-9854-EE5F43E4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61F-878A-406F-AAE7-BC4CEBC1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797-222A-45C6-97DA-6BDAB6D0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979-7FF4-4601-A0FD-755400AA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9B48-2F7D-4499-BBF4-A7D566E38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6 Len v tebe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spásy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ebe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spásy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úzkosti k te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ak svoj upiera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viň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viň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u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u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m ochranc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jím vždy buď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 sve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údil som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ietaný búrka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všetkých st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lásky tvojej žiari mi svi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bez teba, môj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chcem byť. :||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 poblúde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zo mňa zm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ľavu výčitiek sám utíš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a môjho usmerňuj be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nech i ja smiem uzrie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enia breh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3:23:28Z</dcterms:modified>
  <cp:revision>21</cp:revision>
  <dc:subject/>
  <dc:title>Je veľký náš Pán, on slávy je Kráľ Nech do všetkých strán  spev vrúcnych znie chvál.</dc:title>
</cp:coreProperties>
</file>